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DRIVEBY.WAV" ContentType="audio/x-wav"/>
  <Override PartName="/ppt/media/image15.wmf" ContentType="image/x-wmf"/>
  <Override PartName="/ppt/media/image13.wmf" ContentType="image/x-wmf"/>
  <Override PartName="/ppt/media/EXPLODE.WAV" ContentType="audio/x-wav"/>
  <Override PartName="/ppt/media/image12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media/image6.wmf" ContentType="image/x-wmf"/>
  <Override PartName="/ppt/media/image11.wmf" ContentType="image/x-wmf"/>
  <Override PartName="/ppt/media/image23.wmf" ContentType="image/x-wmf"/>
  <Override PartName="/ppt/media/image24.wmf" ContentType="image/x-wmf"/>
  <Override PartName="/ppt/media/CAMERA.WAV" ContentType="audio/x-wav"/>
  <Override PartName="/ppt/media/CASHREG.WAV" ContentType="audio/x-wav"/>
  <Override PartName="/ppt/media/image1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media/image30.wmf" ContentType="image/x-wmf"/>
  <Override PartName="/ppt/media/image5.wmf" ContentType="image/x-wmf"/>
  <Override PartName="/ppt/media/GUNSHOT.WAV" ContentType="audio/x-wav"/>
  <Override PartName="/ppt/media/LASER.WAV" ContentType="audio/x-wav"/>
  <Override PartName="/ppt/media/image14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6EB-7E17-40AA-AC4C-587B0775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F8F-958E-43A5-82EC-4ABE7E33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2F4-C3B9-4AF5-887F-01F44F48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188-ED4B-427B-85AB-F42AAC1D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B49-DFE5-4C3E-9FC4-59A52081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22A-A776-4FEF-AB0D-88D0AFC2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604-61C7-4F62-8B5A-51FFFE5E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03E-5F8F-4F83-8597-1AEFF5DA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537-2FB7-45CA-8385-233660C7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0BF-D5C2-4B32-9FE0-E8933A0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ADF-0CAE-4D19-AD13-01256E78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B4F-D5E7-4597-8245-516F7763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7D6C-CC21-4C5C-8DD3-E591A9D04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CHIMES.WAV"/><Relationship Id="rId8" Type="http://schemas.openxmlformats.org/officeDocument/2006/relationships/audio" Target="../media/CASHREG.WAV"/><Relationship Id="rId9" Type="http://schemas.openxmlformats.org/officeDocument/2006/relationships/audio" Target="../media/CAMERA.WAV"/><Relationship Id="rId10" Type="http://schemas.openxmlformats.org/officeDocument/2006/relationships/audio" Target="../media/DRIVEBY.WAV"/><Relationship Id="rId11" Type="http://schemas.openxmlformats.org/officeDocument/2006/relationships/audio" Target="../media/LASER.WAV"/><Relationship Id="rId12" Type="http://schemas.openxmlformats.org/officeDocument/2006/relationships/audio" Target="../media/WHOOSH.WAV"/><Relationship Id="rId13" Type="http://schemas.openxmlformats.org/officeDocument/2006/relationships/audio" Target="../media/EXPLODE.WAV"/><Relationship Id="rId14" Type="http://schemas.openxmlformats.org/officeDocument/2006/relationships/audio" Target="../media/DRIVEBY.WAV"/><Relationship Id="rId15" Type="http://schemas.openxmlformats.org/officeDocument/2006/relationships/audio" Target="../media/EXPLODE.WAV"/><Relationship Id="rId16" Type="http://schemas.openxmlformats.org/officeDocument/2006/relationships/audio" Target="../media/CAMERA.WAV"/><Relationship Id="rId17" Type="http://schemas.openxmlformats.org/officeDocument/2006/relationships/audio" Target="../media/DRIVEBY.WAV"/><Relationship Id="rId18" Type="http://schemas.openxmlformats.org/officeDocument/2006/relationships/audio" Target="../media/LASER.WAV"/><Relationship Id="rId19" Type="http://schemas.openxmlformats.org/officeDocument/2006/relationships/audio" Target="../media/WHOOSH.WAV"/><Relationship Id="rId20" Type="http://schemas.openxmlformats.org/officeDocument/2006/relationships/audio" Target="../media/EXPLODE.WAV"/><Relationship Id="rId21" Type="http://schemas.openxmlformats.org/officeDocument/2006/relationships/audio" Target="../media/DRIVEBY.WAV"/><Relationship Id="rId22" Type="http://schemas.openxmlformats.org/officeDocument/2006/relationships/audio" Target="../media/EXPLODE.WAV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audio" Target="../media/DRIVEBY.WAV"/><Relationship Id="rId11" Type="http://schemas.openxmlformats.org/officeDocument/2006/relationships/audio" Target="../media/EXPLODE.WAV"/><Relationship Id="rId12" Type="http://schemas.openxmlformats.org/officeDocument/2006/relationships/audio" Target="../media/CAMERA.WAV"/><Relationship Id="rId13" Type="http://schemas.openxmlformats.org/officeDocument/2006/relationships/audio" Target="../media/DRIVEBY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EXPLODE.WAV"/><Relationship Id="rId17" Type="http://schemas.openxmlformats.org/officeDocument/2006/relationships/audio" Target="../media/DRIVEBY.WAV"/><Relationship Id="rId18" Type="http://schemas.openxmlformats.org/officeDocument/2006/relationships/audio" Target="../media/DRIVEBY.WAV"/><Relationship Id="rId19" Type="http://schemas.openxmlformats.org/officeDocument/2006/relationships/audio" Target="../media/EXPLODE.WAV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audio" Target="../media/EXPLODE.WAV"/><Relationship Id="rId13" Type="http://schemas.openxmlformats.org/officeDocument/2006/relationships/audio" Target="../media/CAMERA.WAV"/><Relationship Id="rId14" Type="http://schemas.openxmlformats.org/officeDocument/2006/relationships/audio" Target="../media/DRIVEBY.WAV"/><Relationship Id="rId15" Type="http://schemas.openxmlformats.org/officeDocument/2006/relationships/audio" Target="../media/LASER.WAV"/><Relationship Id="rId16" Type="http://schemas.openxmlformats.org/officeDocument/2006/relationships/audio" Target="../media/WHOOSH.WAV"/><Relationship Id="rId17" Type="http://schemas.openxmlformats.org/officeDocument/2006/relationships/audio" Target="../media/EXPLODE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EXPLODE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CASHREG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audio" Target="../media/CHIMES.WAV"/><Relationship Id="rId18" Type="http://schemas.openxmlformats.org/officeDocument/2006/relationships/audio" Target="../media/CASHREG.WAV"/><Relationship Id="rId19" Type="http://schemas.openxmlformats.org/officeDocument/2006/relationships/audio" Target="../media/CAMERA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EXPLODE.WAV"/><Relationship Id="rId23" Type="http://schemas.openxmlformats.org/officeDocument/2006/relationships/audio" Target="../media/CAMERA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EXPLODE.WAV"/><Relationship Id="rId27" Type="http://schemas.openxmlformats.org/officeDocument/2006/relationships/audio" Target="../media/CAMERA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EXPLODE.WAV"/><Relationship Id="rId31" Type="http://schemas.openxmlformats.org/officeDocument/2006/relationships/audio" Target="../media/CAMERA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EXPLODE.WAV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audio" Target="../media/CAMERA.WAV"/><Relationship Id="rId12" Type="http://schemas.openxmlformats.org/officeDocument/2006/relationships/audio" Target="../media/LASER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EXPLODE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LASER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LASER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audio" Target="../media/CASHREG.WAV"/><Relationship Id="rId20" Type="http://schemas.openxmlformats.org/officeDocument/2006/relationships/audio" Target="../media/GUNSHOT.WAV"/><Relationship Id="rId21" Type="http://schemas.openxmlformats.org/officeDocument/2006/relationships/audio" Target="../media/LASER.WAV"/><Relationship Id="rId22" Type="http://schemas.openxmlformats.org/officeDocument/2006/relationships/audio" Target="../media/CHIMES.WAV"/><Relationship Id="rId23" Type="http://schemas.openxmlformats.org/officeDocument/2006/relationships/audio" Target="../media/LASER.WAV"/><Relationship Id="rId24" Type="http://schemas.openxmlformats.org/officeDocument/2006/relationships/audio" Target="../media/GUNSHOT.WAV"/><Relationship Id="rId25" Type="http://schemas.openxmlformats.org/officeDocument/2006/relationships/audio" Target="../media/LASER.WAV"/><Relationship Id="rId26" Type="http://schemas.openxmlformats.org/officeDocument/2006/relationships/audio" Target="../media/CHIMES.WAV"/><Relationship Id="rId27" Type="http://schemas.openxmlformats.org/officeDocument/2006/relationships/audio" Target="../media/LASER.WAV"/><Relationship Id="rId28" Type="http://schemas.openxmlformats.org/officeDocument/2006/relationships/audio" Target="../media/GUNSHOT.WAV"/><Relationship Id="rId29" Type="http://schemas.openxmlformats.org/officeDocument/2006/relationships/audio" Target="../media/LASER.WAV"/><Relationship Id="rId30" Type="http://schemas.openxmlformats.org/officeDocument/2006/relationships/audio" Target="../media/CHIMES.WAV"/><Relationship Id="rId31" Type="http://schemas.openxmlformats.org/officeDocument/2006/relationships/audio" Target="../media/LASER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42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 number line to find the su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228600" y="281952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l    l    l    l    l    l    l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971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-7   -6  -5  -4   -3   -2  -1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295280"/>
          <a:ext cx="194328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19432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09480" y="1905120"/>
            <a:ext cx="2667240" cy="459720"/>
            <a:chOff x="609480" y="1905120"/>
            <a:chExt cx="2667240" cy="459720"/>
          </a:xfrm>
        </p:grpSpPr>
        <p:sp>
          <p:nvSpPr>
            <p:cNvPr id="50" name=""/>
            <p:cNvSpPr/>
            <p:nvPr/>
          </p:nvSpPr>
          <p:spPr>
            <a:xfrm>
              <a:off x="609480" y="2362320"/>
              <a:ext cx="2667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1905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right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2" name=""/>
          <p:cNvGraphicFramePr/>
          <p:nvPr/>
        </p:nvGraphicFramePr>
        <p:xfrm>
          <a:off x="2362320" y="1260360"/>
          <a:ext cx="106668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260360"/>
                    <a:ext cx="10666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22096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281952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 l       l      l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2971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   -7      -6     -5     -4     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724280" y="1219320"/>
                <a:ext cx="2476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9" name=""/>
          <p:cNvGrpSpPr/>
          <p:nvPr/>
        </p:nvGrpSpPr>
        <p:grpSpPr>
          <a:xfrm>
            <a:off x="6477120" y="1905120"/>
            <a:ext cx="1752480" cy="533160"/>
            <a:chOff x="6477120" y="1905120"/>
            <a:chExt cx="1752480" cy="533160"/>
          </a:xfrm>
        </p:grpSpPr>
        <p:sp>
          <p:nvSpPr>
            <p:cNvPr id="60" name=""/>
            <p:cNvSpPr/>
            <p:nvPr/>
          </p:nvSpPr>
          <p:spPr>
            <a:xfrm>
              <a:off x="6477120" y="2438280"/>
              <a:ext cx="685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53080" y="1905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7238880" y="1219320"/>
          <a:ext cx="106704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1219320"/>
                    <a:ext cx="10670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7010280" y="2286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75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67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 number line to find the su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28600" y="281952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 l       l       l 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971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      6       7        8       9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360" y="1171440"/>
                <a:ext cx="2495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3" name=""/>
          <p:cNvGrpSpPr/>
          <p:nvPr/>
        </p:nvGrpSpPr>
        <p:grpSpPr>
          <a:xfrm>
            <a:off x="1219320" y="1905120"/>
            <a:ext cx="2895120" cy="459720"/>
            <a:chOff x="1219320" y="1905120"/>
            <a:chExt cx="2895120" cy="459720"/>
          </a:xfrm>
        </p:grpSpPr>
        <p:sp>
          <p:nvSpPr>
            <p:cNvPr id="74" name=""/>
            <p:cNvSpPr/>
            <p:nvPr/>
          </p:nvSpPr>
          <p:spPr>
            <a:xfrm flipH="1">
              <a:off x="1219320" y="2362320"/>
              <a:ext cx="2895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722600" y="1905120"/>
              <a:ext cx="18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" name=""/>
          <p:cNvGraphicFramePr/>
          <p:nvPr/>
        </p:nvGraphicFramePr>
        <p:xfrm>
          <a:off x="2660760" y="1219320"/>
          <a:ext cx="77472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0760" y="1219320"/>
                    <a:ext cx="7747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962520" y="22096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105520"/>
            <a:ext cx="4495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876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257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     4      5      6      7       8   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280" y="3494160"/>
                <a:ext cx="3473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2514600" y="4191120"/>
            <a:ext cx="4647240" cy="533160"/>
            <a:chOff x="2514600" y="4191120"/>
            <a:chExt cx="4647240" cy="533160"/>
          </a:xfrm>
        </p:grpSpPr>
        <p:sp>
          <p:nvSpPr>
            <p:cNvPr id="84" name=""/>
            <p:cNvSpPr/>
            <p:nvPr/>
          </p:nvSpPr>
          <p:spPr>
            <a:xfrm>
              <a:off x="2514600" y="4724280"/>
              <a:ext cx="18187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15840" y="4191120"/>
              <a:ext cx="44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6" name=""/>
          <p:cNvGraphicFramePr/>
          <p:nvPr/>
        </p:nvGraphicFramePr>
        <p:xfrm>
          <a:off x="3581280" y="3505320"/>
          <a:ext cx="84456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505320"/>
                    <a:ext cx="844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267080" y="4572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95280" y="4038480"/>
            <a:ext cx="3276720" cy="533520"/>
            <a:chOff x="1295280" y="4038480"/>
            <a:chExt cx="3276720" cy="533520"/>
          </a:xfrm>
        </p:grpSpPr>
        <p:sp>
          <p:nvSpPr>
            <p:cNvPr id="90" name=""/>
            <p:cNvSpPr/>
            <p:nvPr/>
          </p:nvSpPr>
          <p:spPr>
            <a:xfrm>
              <a:off x="1295280" y="4572000"/>
              <a:ext cx="12826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38200" y="4038480"/>
              <a:ext cx="31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ft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75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75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94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 number line to find the su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920" y="2895480"/>
            <a:ext cx="4495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666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0481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7    -6    -5     -4     -3     -2 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0" y="1260360"/>
                <a:ext cx="38671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1295280" y="1905120"/>
            <a:ext cx="6094800" cy="533160"/>
            <a:chOff x="1295280" y="1905120"/>
            <a:chExt cx="6094800" cy="533160"/>
          </a:xfrm>
        </p:grpSpPr>
        <p:sp>
          <p:nvSpPr>
            <p:cNvPr id="101" name=""/>
            <p:cNvSpPr/>
            <p:nvPr/>
          </p:nvSpPr>
          <p:spPr>
            <a:xfrm>
              <a:off x="1295280" y="2438280"/>
              <a:ext cx="2385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9160" y="1905120"/>
              <a:ext cx="58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3809880" y="1295280"/>
          <a:ext cx="116388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95280"/>
                    <a:ext cx="11638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657600" y="2286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85800" y="1828800"/>
            <a:ext cx="1599840" cy="533520"/>
            <a:chOff x="685800" y="1828800"/>
            <a:chExt cx="1599840" cy="533520"/>
          </a:xfrm>
        </p:grpSpPr>
        <p:sp>
          <p:nvSpPr>
            <p:cNvPr id="107" name=""/>
            <p:cNvSpPr/>
            <p:nvPr/>
          </p:nvSpPr>
          <p:spPr>
            <a:xfrm>
              <a:off x="685800" y="2362320"/>
              <a:ext cx="626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5280" y="1828800"/>
              <a:ext cx="15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f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80880" y="5638680"/>
            <a:ext cx="44960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l     l     l     l     l     l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5791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   1     2     3     4     5     6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4320" y="3602160"/>
                <a:ext cx="287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3352680" y="4724280"/>
            <a:ext cx="1218960" cy="533160"/>
            <a:chOff x="3352680" y="4724280"/>
            <a:chExt cx="1218960" cy="533160"/>
          </a:xfrm>
        </p:grpSpPr>
        <p:sp>
          <p:nvSpPr>
            <p:cNvPr id="114" name=""/>
            <p:cNvSpPr/>
            <p:nvPr/>
          </p:nvSpPr>
          <p:spPr>
            <a:xfrm flipH="1">
              <a:off x="4073760" y="5257440"/>
              <a:ext cx="4978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52680" y="4724280"/>
              <a:ext cx="121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righ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6" name=""/>
          <p:cNvGraphicFramePr/>
          <p:nvPr/>
        </p:nvGraphicFramePr>
        <p:xfrm>
          <a:off x="2971800" y="3581280"/>
          <a:ext cx="84456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581280"/>
                    <a:ext cx="844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9880" y="5105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4267080"/>
            <a:ext cx="9828720" cy="533520"/>
            <a:chOff x="685800" y="4267080"/>
            <a:chExt cx="9828720" cy="533520"/>
          </a:xfrm>
        </p:grpSpPr>
        <p:sp>
          <p:nvSpPr>
            <p:cNvPr id="120" name=""/>
            <p:cNvSpPr/>
            <p:nvPr/>
          </p:nvSpPr>
          <p:spPr>
            <a:xfrm>
              <a:off x="685800" y="4800600"/>
              <a:ext cx="3847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14200" y="4267080"/>
              <a:ext cx="9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ft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8720" y="1828800"/>
            <a:ext cx="55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ommunitive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5760" y="1200240"/>
                <a:ext cx="55512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0" y="609480"/>
            <a:ext cx="9144000" cy="890640"/>
            <a:chOff x="0" y="609480"/>
            <a:chExt cx="9144000" cy="890640"/>
          </a:xfrm>
        </p:grpSpPr>
        <p:sp>
          <p:nvSpPr>
            <p:cNvPr id="126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ame the property that makes the statement tru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920" y="10666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93600" y="2895480"/>
            <a:ext cx="46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dentity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2362320"/>
          <a:ext cx="24890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24890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068480" y="411480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ssociative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96800" y="3519360"/>
                <a:ext cx="5703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145520" y="525780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verse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8120" y="4708440"/>
                <a:ext cx="3524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38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d the differenc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0" name=""/>
          <p:cNvGraphicFramePr/>
          <p:nvPr/>
        </p:nvGraphicFramePr>
        <p:xfrm>
          <a:off x="533520" y="1295280"/>
          <a:ext cx="152388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15238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057400" y="1295280"/>
          <a:ext cx="106668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1295280"/>
                    <a:ext cx="10666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686480" y="1258920"/>
          <a:ext cx="19810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6480" y="1258920"/>
                    <a:ext cx="1981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737400" y="1219320"/>
          <a:ext cx="130788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7400" y="1219320"/>
                    <a:ext cx="1307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68520" y="1828800"/>
            <a:ext cx="289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different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47160" y="26668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80600" y="1828800"/>
            <a:ext cx="290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the same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60320" y="26668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54040" y="3773520"/>
          <a:ext cx="186228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4040" y="3773520"/>
                    <a:ext cx="18622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546280" y="3733920"/>
          <a:ext cx="1308240" cy="485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46280" y="3733920"/>
                    <a:ext cx="1308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798840" y="4343400"/>
            <a:ext cx="289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different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9200" y="51814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726080" y="3773520"/>
          <a:ext cx="1900080" cy="45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6080" y="3773520"/>
                    <a:ext cx="1900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880320" y="3733920"/>
          <a:ext cx="1020600" cy="485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80320" y="3733920"/>
                    <a:ext cx="1020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989600" y="4343400"/>
            <a:ext cx="289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different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60320" y="51814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66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d the differenc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399960" y="1295280"/>
          <a:ext cx="179064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295280"/>
                    <a:ext cx="179064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203560" y="1295280"/>
          <a:ext cx="77472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3560" y="1295280"/>
                    <a:ext cx="7747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72000" y="1162080"/>
                <a:ext cx="2362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3" name=""/>
          <p:cNvGraphicFramePr/>
          <p:nvPr/>
        </p:nvGraphicFramePr>
        <p:xfrm>
          <a:off x="6880320" y="1219320"/>
          <a:ext cx="10206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80320" y="1219320"/>
                    <a:ext cx="1020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68520" y="1828800"/>
            <a:ext cx="289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different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7160" y="26668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80600" y="1828800"/>
            <a:ext cx="290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the same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0320" y="26668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1143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+ 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3400" y="175248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dd the neg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6840" y="1154160"/>
                <a:ext cx="2760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16040" y="2209680"/>
                <a:ext cx="217476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4" name=""/>
          <p:cNvGrpSpPr/>
          <p:nvPr/>
        </p:nvGrpSpPr>
        <p:grpSpPr>
          <a:xfrm>
            <a:off x="0" y="609480"/>
            <a:ext cx="9144000" cy="890640"/>
            <a:chOff x="0" y="609480"/>
            <a:chExt cx="9144000" cy="890640"/>
          </a:xfrm>
        </p:grpSpPr>
        <p:sp>
          <p:nvSpPr>
            <p:cNvPr id="185" name=""/>
            <p:cNvSpPr/>
            <p:nvPr/>
          </p:nvSpPr>
          <p:spPr>
            <a:xfrm>
              <a:off x="0" y="609480"/>
              <a:ext cx="914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Evaluate the expression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0666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7" name=""/>
          <p:cNvGraphicFramePr/>
          <p:nvPr/>
        </p:nvGraphicFramePr>
        <p:xfrm>
          <a:off x="1623960" y="4800600"/>
          <a:ext cx="3510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4800600"/>
                    <a:ext cx="351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48320" y="1082520"/>
                <a:ext cx="2925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761000" y="4038480"/>
                <a:ext cx="3305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33720" y="2971800"/>
            <a:ext cx="289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different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2000" y="38098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1066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+ 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037200" y="3505320"/>
          <a:ext cx="668520" cy="52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7200" y="3505320"/>
                    <a:ext cx="66852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673520" y="1676520"/>
            <a:ext cx="33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all the same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4000" y="251460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33960" y="6332400"/>
          <a:ext cx="97956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33960" y="6332400"/>
                    <a:ext cx="97956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825800" y="4503600"/>
            <a:ext cx="33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all the same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6640" y="534204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1295280"/>
          <a:ext cx="194328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19432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0" y="609480"/>
            <a:ext cx="9144000" cy="890640"/>
            <a:chOff x="0" y="609480"/>
            <a:chExt cx="9144000" cy="890640"/>
          </a:xfrm>
        </p:grpSpPr>
        <p:sp>
          <p:nvSpPr>
            <p:cNvPr id="206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d the terms of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4920" y="10666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97080" y="182880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38080" y="1752480"/>
          <a:ext cx="50796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5079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981080" y="1752480"/>
          <a:ext cx="117792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1752480"/>
                    <a:ext cx="1177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57200" y="2590920"/>
          <a:ext cx="20574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590920"/>
                    <a:ext cx="20574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373400" y="320040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3520" y="3200400"/>
          <a:ext cx="925560" cy="66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3200400"/>
                    <a:ext cx="9255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057400" y="3124080"/>
          <a:ext cx="817560" cy="609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3124080"/>
                    <a:ext cx="817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03200" y="4097160"/>
          <a:ext cx="2319480" cy="451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200" y="4097160"/>
                    <a:ext cx="23194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602000" y="480060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3520" y="4724280"/>
          <a:ext cx="1176120" cy="60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520" y="4724280"/>
                    <a:ext cx="11761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362320" y="4724280"/>
          <a:ext cx="404640" cy="609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62320" y="4724280"/>
                    <a:ext cx="4046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2952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g. 75   2.2 #5-11, 12-36 ev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g. 82   2.3 #4-15, 16-58 ev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12T17:09:22Z</dcterms:modified>
  <cp:revision>60</cp:revision>
  <dc:subject/>
  <dc:title>No Slide Title</dc:title>
</cp:coreProperties>
</file>